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A45-C68A-4307-B24F-7D21E0F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35E-4AA2-4095-80E9-CF0A7CF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D45-8E4E-4076-98C6-EF35B49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F9C-17FE-40A7-8C33-BA05CAED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77E-7D29-4C34-BC0C-56432846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022-D515-46C2-A8A8-81C2FC7F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0CAA-1481-4D54-BAB6-DBC0E93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BE21-B852-41A4-917A-9B76E64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50A-570D-47DA-92F7-DD83AE66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480" y="1980720"/>
            <a:ext cx="5561280" cy="953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CC27-0CAD-4C0A-9B4E-993DE3D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135F-8A12-4AC7-ABAF-D72525B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880-26AB-451D-9AAC-57E834C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54F9-C295-42D1-8DE5-4D9EC1A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4F7-7EE5-4515-AF92-7A541D9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B9EC-30A4-42D9-B9B3-92F0502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28CB-D0B5-4E7A-9A87-61CC404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CB8-5FDB-4070-B468-CD883360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578-C61E-43C8-A3B1-1E060AB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010-CE7C-4251-99E0-1CA1C51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083-FA83-4338-84B5-3594F562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480" y="1980720"/>
            <a:ext cx="5561280" cy="953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0A0-665E-4F82-B664-14E9EE20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D15-B8C1-4D1C-9766-3385924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4AB-BC01-4D78-BE4F-17372CC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154-FDCA-4443-9BE2-DB399C4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409F9-D562-4572-8232-864B3970C5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12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CEC26-3B1F-4066-8171-36EB3A6A704B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Ghost Child by Joseph Nhlap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P-CAST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ought that the poem was going to be about a child that died of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araphras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poem is about a child that is suffering from AIDS and wants some one to cure the diseas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onnota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 shout, shout and scream for my blood to spring once again like rivers in summer.”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IDS attacks peoples bloodstream, so the child wants to have healthy, fresh blood.  Blood that isn't weakened by AID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uld you unwrap this red ribbon from me?”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d ribbon is the symbol for AIDS, just like the pink ribbon is the symbol for breast canc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kosi yami!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translated into English, yami means “my”, and nkosi means “chief”, or “king.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8001000" y="4952880"/>
            <a:ext cx="792000" cy="11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dali wami ungishiyekani manje”                                       when translated into English, mdali means “God”, or “creator”, and wami means “my.”  Manje, in English, means “present”, “current”, or “now.”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m I still your child?”  Repetition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child wants to know if God still loves him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uld you shower me with little raindrops?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rsonification.  To clense the AIDS from the child, get rid of it, wash it aw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ttitu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attitude of the speaker is sad.  The speaker is desperate and hopeful, waiting for a cure of its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author's attitude is, and that he feels bad for the chil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hift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shift from the beginning of the poem to the en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title is about a child that is suffering from AID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52680" y="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m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960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think that the theme of the poem is about how AIDS takes affects on kids, and what they go through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9:44:30Z</dcterms:created>
  <dc:creator>User</dc:creator>
  <dc:description/>
  <dc:language>en-US</dc:language>
  <cp:lastModifiedBy>Classroom/Lab</cp:lastModifiedBy>
  <dcterms:modified xsi:type="dcterms:W3CDTF">2010-11-17T19:35:34Z</dcterms:modified>
  <cp:revision>5</cp:revision>
  <dc:subject/>
  <dc:title>Ghost Child by Joseph Nhlapo</dc:title>
</cp:coreProperties>
</file>